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24872-9A02-459A-81D3-BF830BD5A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2A0D7-5AB9-47E9-A6CF-21D5D4EA0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23369-EAA2-472C-9CCF-2AE252AA8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D8879-72C3-431C-B5C9-0533E1F92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5BB00-8DD3-4DEF-9D91-809E2205B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FCA5F-65D5-455B-BDD6-83CE901A2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2F6FB-1166-4546-899D-F56653E7A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F31CF-9FD1-40EF-A7E0-60C7459A8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DB81F-B40B-452B-8544-99B925ADE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0AC4C-4A81-40E3-8F44-D8B89759A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D4AC7-D9C3-401F-9754-C318E8101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95007-FF40-452C-BA48-7C697B5F4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8320" indent="-282600">
              <a:spcBef>
                <a:spcPts val="700"/>
              </a:spcBef>
              <a:buClr>
                <a:srgbClr val="0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3640" indent="-22860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52520" indent="-182520">
              <a:spcBef>
                <a:spcPts val="700"/>
              </a:spcBef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15A6A-3EFF-4B93-BC65-ADF261D7F2F7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Τίτλος 1" descr=""/>
          <p:cNvPicPr/>
          <p:nvPr/>
        </p:nvPicPr>
        <p:blipFill>
          <a:blip r:embed="rId1"/>
          <a:stretch/>
        </p:blipFill>
        <p:spPr>
          <a:xfrm>
            <a:off x="457200" y="96840"/>
            <a:ext cx="8229600" cy="17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Τίτλος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πό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το19ο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αιώνα,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είχαν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γίνει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στην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Ευρώπη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πολλές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αλλαγές: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της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επιστήμης,της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κοινωνίας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και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οδηγούν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βαθμιαία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στην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ανατροπή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των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καθιερωμένων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αξιών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Τίτλος 1" descr=""/>
          <p:cNvPicPr/>
          <p:nvPr/>
        </p:nvPicPr>
        <p:blipFill>
          <a:blip r:embed="rId1"/>
          <a:stretch/>
        </p:blipFill>
        <p:spPr>
          <a:xfrm>
            <a:off x="469800" y="85680"/>
            <a:ext cx="8229600" cy="17193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10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Πνευματικά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ή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επαναστατικά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κινήματα: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ο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Διαφωτισμός,η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Γαλλική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Επανάσταση,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ο Ρομαντισμός,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η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Βιομηχανική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Επανάσταση,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η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Ρωσική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Επανάσταση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Τίτλος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Η παραδοσιακή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οίησ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ανταποκρινότα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στην παλιά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τάξ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ραγμάτων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Γιατί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οι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αραπάνω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αλλαγέ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επενεργούν στο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τρόπο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μ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το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οποίο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ο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άνθρωπο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αισθανότα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τ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σχέσ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του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μ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το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κόσμο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επηρεάζου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δηλαδή την ευαισθησία το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Για να εκφράσει τη «διάλυση» ευαισθησίας του ανθρώπου, η ποίηση έπρεπε να βρει καινούριους εκφραστικούς τρόπου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Τίτλος 1" descr=""/>
          <p:cNvPicPr/>
          <p:nvPr/>
        </p:nvPicPr>
        <p:blipFill>
          <a:blip r:embed="rId1"/>
          <a:stretch/>
        </p:blipFill>
        <p:spPr>
          <a:xfrm>
            <a:off x="457200" y="96840"/>
            <a:ext cx="8229600" cy="17193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10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Το όνομα: άγνωστο, παρουσιαζόταν πρώτη φορά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spcBef>
                <a:spcPts val="10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Ο τίτλος είναι διφορούμενος: μπορεί να είναι ένας όρος της στιχουργικής,αλλὰ μπορεί και να σημαίνει μια βαθύτερη αλλαγή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Τίτλος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10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ο τίτλος είχε ασφαλώς το δεύτερο νόημα. Με τη λιγοσέλιδη ποιητικὴ συλλογή ερχόταν στη νέα ελληνική ποίηση μία αναπάντεχη αλλαγή, μια πραγματική «στροφή»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Τίτλος 1" descr=""/>
          <p:cNvPicPr/>
          <p:nvPr/>
        </p:nvPicPr>
        <p:blipFill>
          <a:blip r:embed="rId1"/>
          <a:stretch/>
        </p:blipFill>
        <p:spPr>
          <a:xfrm>
            <a:off x="414360" y="96840"/>
            <a:ext cx="8400960" cy="17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8T09:13:27Z</dcterms:created>
  <dc:creator>ΓΙΩΡΓΟΣ   ΔΕΣΠΟΙΝΑ</dc:creator>
  <dc:description/>
  <dc:language>en-US</dc:language>
  <cp:lastModifiedBy>giorgos</cp:lastModifiedBy>
  <dcterms:modified xsi:type="dcterms:W3CDTF">2012-03-23T09:53:23Z</dcterms:modified>
  <cp:revision>11</cp:revision>
  <dc:subject/>
  <dc:title>ΗΓενιάτου’30 Aπό το19ο αιώνα, είχαν γίνει στην Ευρώπη πολλέςαλλαγές,που έχουν σχέση με την εξέλιξη της επιστήμης και τη δομή της κοινωνικής οργάνωσης και οδηγούν βαθμιαία στην ανατροπή των καθιερωμένων αξιών.</dc:title>
</cp:coreProperties>
</file>