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CD8C1-4BF2-4251-A971-C045C943F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22C42-0610-44D0-AF07-928E71A34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0E305-EAD8-451D-8FA5-8471908CB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E2FF6-F5F1-4A50-8C67-75FBBA9AC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F85F4-C2F1-404B-9663-5C12A80C6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661EC-B43E-4AB2-AAD9-7CE349686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D6049-DAA5-4D90-B168-1BAD59148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41738-3606-4965-A743-3F6BAE2AC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33B83-6497-402A-A82D-1BE8CE0D4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E83F9-E4A8-468F-BAB6-6663714B6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59AAF-9FF1-4206-AF5B-494BF4006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29C0B-EC73-4111-90CE-F28FEDE8D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84815-5D30-475C-8B5A-2C16613A91EE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12:39Z</dcterms:modified>
  <cp:revision>3</cp:revision>
  <dc:subject/>
  <dc:title>Slide 1</dc:title>
</cp:coreProperties>
</file>