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C54EF-790A-4BDA-9922-B3981771F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33810-1543-4406-B8A7-11F117D25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288B6-28FC-4A4B-8542-885A08337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ACA8E-7CFF-4767-A12C-180621DEC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D5AA9-0D5E-417C-BCD8-BEB649745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834F6-97EB-45F3-9188-998741E51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A8BC8-6C15-4BAF-B042-D3B5CE82C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69E12-32B2-41CB-A16A-2FCD97977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151F7-8B1F-4A86-91B2-7159AA34B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6865E-E51B-4856-8A26-C5F6D3BD9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666A0-18F4-43F5-93C3-C7F64B71A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D4AE7-62FB-412A-AC96-86BA401B6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4920"/>
            <a:ext cx="3248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060B9-7371-4D9E-BD99-837FEA0E63A8}" type="slidenum">
              <a:rPr b="1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40000" cy="2279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411280" y="3068640"/>
            <a:ext cx="43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ΕΚΠΑΙΔΕΥΤΙΚΟ ΛΟΓΙΣΜΙΚ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Διαφάνει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61AFF-7BEB-4298-825F-F5F2D1639F1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13:05:45Z</dcterms:created>
  <dc:creator>christak</dc:creator>
  <dc:description/>
  <dc:language>en-US</dc:language>
  <cp:lastModifiedBy>1</cp:lastModifiedBy>
  <dcterms:modified xsi:type="dcterms:W3CDTF">2005-01-13T13:41:22Z</dcterms:modified>
  <cp:revision>4</cp:revision>
  <dc:subject/>
  <dc:title>Slide 1</dc:title>
</cp:coreProperties>
</file>