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1991-051E-462F-8FC1-2FED4B74B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0595-96F3-4829-8767-D2D6E8FC8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C064-D226-4513-8A2D-C61C338BC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0E50-8C45-40B3-9364-23549457A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0CD8-3249-4030-A3F1-755AC70CC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7E11-20CA-4BDC-8FAD-265F0E0DD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A8D7-765F-47AC-9F3F-6D4BF57F5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0370-B09B-4792-96B7-9BE9A0100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A8C4-D80B-4832-A5DC-26E3DF908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8A96-05A0-4748-83DA-38263E5A8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75EC-94BE-492C-AE31-4F0165C84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6C23-4BD5-4A9B-8F44-4B9F9B1BC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0A3A2-4DFA-41E2-892B-0D2275BAB6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8T16:54:26Z</dcterms:modified>
  <cp:revision>79</cp:revision>
  <dc:subject/>
  <dc:title>Τίτλος ενότητας</dc:title>
</cp:coreProperties>
</file>