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FEDA-8B86-4484-8BF9-10CDCD25D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D757-827F-4895-92FA-09EB7866D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AD1D-1CAB-42A0-A96A-90DF5DACF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6D59-66E4-4268-BC72-BC760E54C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6D44-9ADE-4265-9B81-E500BBE0A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CDFB-0F71-4A01-960D-D98396D28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A081-8EE5-4F32-8B65-F933E0560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D7E7-EA6F-4387-84D7-9B1F0CA03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BC8B-1B9F-459D-AEE0-78B86071B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F93E-520A-4BDC-ADB9-F44664763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2265-CFD1-4496-980E-A7D9B59F4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629E-C49A-4EF9-A152-B5B4FCE2B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6FB04-C3A3-4AC5-8454-269CF65A85FF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0E68-2363-4328-952C-A98C7053E67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08Z</dcterms:modified>
  <cp:revision>3</cp:revision>
  <dc:subject/>
  <dc:title>Slide 1</dc:title>
</cp:coreProperties>
</file>