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C174-B719-41FF-B038-2A9FA9901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1BAC-7BC6-40AE-963C-3E01A0190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C9E9-F574-419A-A777-F4E0B7436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C7CF-8CBA-4D6F-AEF5-AC06B4F72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4AF5F-4261-4B5A-B481-452CFF2B1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89FEC-F50C-46C1-B1DC-7957D33AE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9223A-C0BB-4F08-81D8-694409869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A61FB-947B-40D6-A06F-D3BAAE2E1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ADE18-AA5E-4847-9EFE-C45BDBDA7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995C7-3438-44AD-913F-564B67982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D0B3D-F728-4B1E-AC38-CBC384FB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D52B-6471-4CD4-9280-7794CA440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73293-F5DA-410B-9DC0-4424D3C83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F0513-8840-47F0-AC47-3D5488159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7C6B9-C6E8-4658-AAF3-1FD5E4CDE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9ED68-A97B-4270-865F-23D0AE4BA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89C65-C213-4464-AB4C-98D8B7186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0D3A68-BC62-4781-B286-AA63648B8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2211AE-88B7-4252-8A0E-DB6F07437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E88170-7897-40F8-9C6C-25F7EAA0F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114C74-5E70-4A8B-BC60-0546BEAC6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236830-DAF5-49FD-8420-F72D163B0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BD74-7B72-44CF-8FD3-822F03EA3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097586-F8A8-4B28-BBC4-F6FE8BD5A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68E958-6B7A-42E0-82E3-633A1F9EC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9994CB-0631-4BC6-A9D8-A5907718D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2EA4BE-40C5-4DC6-AB4D-C8E82D015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5F8A33-62CE-4EF2-AF9D-80369E018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417754-6463-488A-9C70-EE455FE24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7762F3-DF9B-4584-A71A-9CC4E6FA0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C26D3-305D-475D-86A5-717928F71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D81EE-04C8-4F14-ABDA-865788563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D91AF-B591-4F78-8342-B2369F6E9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6021-6FB5-404C-B10F-22B72A274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D7FF7-572F-48A7-B13C-6977E6DC8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56809-9C3A-4016-A45F-455F6C791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D36CF-E420-40A8-A912-3BC549CCD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72CB7-3D55-4B8A-B6AB-AD6F2A520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C36E4-0689-4DE9-BF05-71CA39D33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9F617-30B7-4BF2-9CC1-85425D0A8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FBC99-6B12-41E9-97FA-F39D54E1A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DCD40-A2E2-4FBD-B605-DBFC5B223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F6ADC-BD70-49E6-BEEE-065CC4947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91D1-A972-4F3A-9F25-0281D9FA6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7B8C-4EFC-47CC-A6A1-720879A60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2312-8BBC-4714-AEC0-D4676CAED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AF2B-E6B6-4BCC-814E-D6DEDF96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214B-19EC-4777-AD27-0C3C1777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7ED16-4B38-40BB-881B-AD1977632C1D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587C6-7B97-45E7-BF65-D59828FFF4DC}" type="slidenum">
              <a:rPr b="0" lang="el-GR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61648-A321-4742-86DC-63403C627A4C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C9DEE-ACD1-4AA7-B9BD-FEF6A9DE13EE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eri-grafis.com/spaw2/uploads/images/dali18.jpg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ΠΟΙΗΜΑΤΑ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6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424242"/>
                </a:solidFill>
                <a:latin typeface="Arial"/>
                <a:ea typeface="Arial"/>
              </a:rPr>
              <a:t>Τρία Χαϊκού, Γ. Σεφέρης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IA</a:t>
            </a: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9" name="Εικόνα 1" descr=""/>
          <p:cNvPicPr/>
          <p:nvPr/>
        </p:nvPicPr>
        <p:blipFill>
          <a:blip r:embed="rId1"/>
          <a:srcRect l="19494" t="0" r="19494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Πού να μαζεύ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α χίλια κομματάκια 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υ κάθε ανθρώπου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ΙΕ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2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Βουλιάζει ο κόσμο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κρατήσου, θα σ' αφήσει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μόνο στον ήλιο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835280" y="4869000"/>
            <a:ext cx="5486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         </a:t>
            </a:r>
            <a:br>
              <a:rPr sz="2500"/>
            </a:b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ΙΣΤ΄</a:t>
            </a:r>
            <a:endParaRPr b="0" lang="en-US" sz="25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5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Γράφ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 μελάνι λιγόστεψ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η θάλασσα πληθαίνει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 u="sng">
                <a:solidFill>
                  <a:srgbClr val="e68200"/>
                </a:solidFill>
                <a:uFillTx/>
                <a:latin typeface="Calibri"/>
                <a:hlinkClick r:id="rId1"/>
              </a:rPr>
              <a:t>http://www.peri-grafis.com/spaw2/uploads/images/dali18.jpg</a:t>
            </a:r>
            <a:endParaRPr b="0" lang="en-US" sz="29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7T23:23:45Z</dcterms:created>
  <dc:creator>ΓΙΩΡΓΟΣ   ΔΕΣΠΟΙΝΑ</dc:creator>
  <dc:description/>
  <dc:language>en-US</dc:language>
  <cp:lastModifiedBy>giorgos</cp:lastModifiedBy>
  <dcterms:modified xsi:type="dcterms:W3CDTF">2012-03-25T17:17:28Z</dcterms:modified>
  <cp:revision>3</cp:revision>
  <dc:subject/>
  <dc:title>(πίνακας του Νταλί)</dc:title>
</cp:coreProperties>
</file>