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D32D-F98B-4F1D-A405-4BACE92EC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CD05-7132-4D29-8FAF-884C20F18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CA28-077A-43AB-8E81-82E6805A9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2566-7205-43B5-8A2A-EAE70D28D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171E-9421-49F4-A6A5-A01223F89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2908-86E4-429D-968A-99E221AEF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EB49-0B65-4FB5-878B-EBF68AC08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6875-1E71-4611-AFF9-2C3B5458F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E143-0AA3-4235-BF9A-80DCB51B7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7D15-796D-4F4B-9EAB-6618536ED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65E3-BCE8-40F6-8E1C-2A27877A7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52FF-088D-4A3B-A5ED-736B1ED2F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54246-94E8-4487-90E0-C5A1118EC3D0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christak</cp:lastModifiedBy>
  <dcterms:modified xsi:type="dcterms:W3CDTF">2003-09-15T12:00:59Z</dcterms:modified>
  <cp:revision>13</cp:revision>
  <dc:subject/>
  <dc:title>Εισαγωγικές έννοιες πληροφορικής, χρήση Η/Υ και γραφικά περιβάλλοντα επικοινωνίας</dc:title>
</cp:coreProperties>
</file>