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24C9-8C14-4D7B-A899-B17C0F52D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FF33-D2A9-412F-84DD-B995E3759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96C7-4774-4DBE-BC4A-D3F288AEF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2DCC-2778-4E6B-B130-24451DFB3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DAF9-21E4-4583-840C-5ACAEE677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3F43-0D07-453F-8CB9-D3198768B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EEED-30E6-473C-A22B-36C59A928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E387-D902-48EC-9464-8B62A7B41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94C9-822D-4CB0-AA5F-9B389FF4B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F2D0-F41C-4F3D-8478-150E6CA5C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CE6D-FDEC-465A-9600-1ACB43E5B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9BC5-F054-4E61-89C2-2F24003A6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4A93A-231B-41E1-AA63-4A4E8AB193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05264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9T15:18:39Z</dcterms:modified>
  <cp:revision>5</cp:revision>
  <dc:subject/>
  <dc:title>Slide 1</dc:title>
</cp:coreProperties>
</file>