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AFF8-0AD1-4FF4-8C0C-1640313F6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D0C8-10A2-442F-A2DC-FD64E458E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CCF5-E19F-4C2D-88B6-7DD7BCAF6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B86B-C704-426F-8AF3-3FF5CA748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20EF-A147-4FB3-89FB-44812E124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1DC1-0F8D-4A18-A98F-66003FE98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7D4A-406C-49D3-AE69-243FC7A8D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9C02-1B1D-4D24-AEE4-B10240BCA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A775-426E-45D0-B5C3-1AF97245F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02B3-288C-4C34-A49D-67C45C465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FACC-3545-4CD3-877D-64955D334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F651-A026-4365-A387-A9ED881DE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5A4EA-B50B-4ED4-8C39-08BAFE1F2D2D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17Z</dcterms:modified>
  <cp:revision>2</cp:revision>
  <dc:subject/>
  <dc:title>Slide 1</dc:title>
</cp:coreProperties>
</file>