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9633-B544-45D5-8211-64513AC4F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C5C8-AE5C-4F5C-83F7-26501AE4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19A2-12D5-469F-869B-6926ED22D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2A72-1A4B-44C9-82C5-7B3E4AD45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543D-F3B0-4A0E-B232-ACA077FB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DA09-3172-4192-919E-32CBE532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F632-22DD-4828-8FF4-8E5AC9EC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7E5C-AC98-4311-B570-EE97ADD2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A20A-A875-4735-BCF6-25F7E123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87A6-50B5-42B6-93EA-42E5C743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69AC-55E6-434F-8F25-F6D42967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808C-72B8-4AE3-83A5-62748281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DD5A-7832-476E-B70A-0053A7CA3872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19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ιώνα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χα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ίνε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υρώπ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λέ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λλαγέ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ιστήμης,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δηγού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θμιαί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ατροπ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θιερωμέν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ξιώ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Τίτλος 1" descr=""/>
          <p:cNvPicPr/>
          <p:nvPr/>
        </p:nvPicPr>
        <p:blipFill>
          <a:blip r:embed="rId1"/>
          <a:stretch/>
        </p:blipFill>
        <p:spPr>
          <a:xfrm>
            <a:off x="4698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νευμ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αστ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ινήματα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ιαφωτισμός,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αλλ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Ρομαντισμός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ιομηχαν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Ρωσ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 παραδοσιακ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ίη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ταποκρι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ην παλι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άξ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ραγμάτω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τ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αραπάν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λλαγέ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ενεργούν σ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ρόπο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ποί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άνθρωπ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ισθα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κόσμ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ηρεάζου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ηλαδή την ευαισθησία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 να εκφράσει τη «διάλυση» ευαισθησίας του ανθρώπου, η ποίηση έπρεπε να βρει καινούριους εκφραστικούς τρόπου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όνομα: άγνωστο, παρουσιαζόταν πρώτη φορά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ναι διφορούμενος: μπορεί να είναι ένας όρος της στιχουργικής,αλλὰ μπορεί και να σημαίνει μια βαθύτερη αλλαγή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χε ασφαλώς το δεύτερο νόημα. Με τη λιγοσέλιδη ποιητικὴ συλλογή ερχόταν στη νέα ελληνική ποίηση μία αναπάντεχη αλλαγή, μια πραγματική «στροφή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Τίτλος 1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13:27Z</dcterms:created>
  <dc:creator>ΓΙΩΡΓΟΣ   ΔΕΣΠΟΙΝΑ</dc:creator>
  <dc:description/>
  <dc:language>en-US</dc:language>
  <cp:lastModifiedBy>giorgos</cp:lastModifiedBy>
  <dcterms:modified xsi:type="dcterms:W3CDTF">2012-03-23T09:53:23Z</dcterms:modified>
  <cp:revision>11</cp:revision>
  <dc:subject/>
  <dc:title>ΗΓενιάτου’30 Aπό το19ο αιώνα, είχαν γίνει στην Ευρώπη πολλέςαλλαγές,που έχουν σχέση με την εξέλιξη της επιστήμης και τη δομή της κοινωνικής οργάνωσης και οδηγούν βαθμιαία στην ανατροπή των καθιερωμένων αξιών.</dc:title>
</cp:coreProperties>
</file>