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3235B-AA1E-48C8-9914-01B8D3A43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40CB3-C8EE-4DBA-A10C-DDB06026F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EE860-3279-4CED-9E13-423332ED2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50741-6A51-46DD-8E09-F30B2DA07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3B9A8-8DC7-4423-9979-4F7BF3AE5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172F5-4662-429E-941E-423E0E71B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C1FC2-D3D6-4D47-81C0-FEAA70020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781D4-7252-4F97-84D7-D4B4B41E4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91028-667C-407B-9ECA-A888E3777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842E0-AF71-4F28-976A-6143CECE5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82E13-9FDC-44EA-8CC3-D158FA613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2C23B-3893-431F-9F0A-FB4584D03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A5E0B-F266-4518-9146-30AF6056233F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Arial"/>
              </a:rPr>
              <a:t>ΕΚΠΑΙΔΕΥΤΙΚΟ ΛΟΓΙΣΜΙΚ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32000" y="1915920"/>
            <a:ext cx="6400800" cy="12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Arial"/>
              </a:rPr>
              <a:t>Πρώτη γνωριμία με διαθέσιμο εκπαιδευτικό λογισμικ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76360" y="3573360"/>
            <a:ext cx="64008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… </a:t>
            </a:r>
            <a:r>
              <a:rPr b="1" lang="el-GR" sz="4400" spc="-1" strike="noStrike">
                <a:solidFill>
                  <a:srgbClr val="333399"/>
                </a:solidFill>
                <a:latin typeface="Arial"/>
              </a:rPr>
              <a:t>Διαπιστώσεις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 ραγδαία εξέλιξη της Τεχνολογίας επιδρά στην κοινωνική πραγματικότητα , άρα και στην Εκπαίδευ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Στοιχειοθετείται η ανάγκη  επαναπροσδιορισμού του παραδοσιακού μοντέλου διδασκαλίας με τη δημιουργική αξιοποίηση των δυνατοτήτων των Νέων Τεχνολογιώ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740720" cy="15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Σύμφωνα με διεθνείς έρευνες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0920" y="6165720"/>
            <a:ext cx="85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ηγ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ational Council for Educational Technology (NCE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1816200"/>
            <a:ext cx="8434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9900"/>
                </a:solidFill>
                <a:latin typeface="Arial"/>
              </a:rPr>
              <a:t>Η χρήση των Νέων Τεχνολογιών στην εκπαίδευση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Παρέχει στο μαθητή πρόσβαση σε πλούσιες πηγές πληροφοριών και εκπαιδευτικού υλικού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Διεγείρει το ενδιαφέρον του μαθητ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Ενισχύει την αυτοπεποίθηση του μαθητή στη διαδικασία μάθηση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Κινητοποιεί τους αδύνατους μαθητέ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101080" y="630864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050560" y="188640"/>
            <a:ext cx="676908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Οι έρευνες όμως δείχνουν επίσης ότι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Οι Νέες Τεχνολογίες συμβάλλουν πραγματικά στη μάθηση μόνο όταν χρησιμοποιούνται μέσα απ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κατάλληλα σχεδιασμένες δραστηριότητε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και με σαφώ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καθορισμένους στόχου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6237360"/>
            <a:ext cx="7920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ηγ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ational Council for Educational Technology (NCE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ΒΑΣΙΚΕΣ ΔΕΞΙΟΤΗΤΕ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5013000"/>
            <a:ext cx="403848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Και τώρα τι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11280" y="1916280"/>
            <a:ext cx="21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627280" y="270828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427640" y="321300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C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56360" y="3500280"/>
            <a:ext cx="27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476360" y="4076640"/>
            <a:ext cx="388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721080"/>
            <a:ext cx="8064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17200" y="345960"/>
            <a:ext cx="785988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Είδη Εκπαιδευτικού Λογισμικο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71280" y="1196640"/>
            <a:ext cx="7894440" cy="49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Μεταξύ άλλων 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εκγύμνα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Σύνολο δοκιμασιών για εξάσκηση και αξιολόγηση του μαθητ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παρουσία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Παρουσίαση της διδακτέας ύλης με χρήση πολυμέσω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προσομοίω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Δημιουργί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αναπαράστασης ή μοντέλου ενός πραγματικού φαινομένου στην οθόν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επίλυσης προβλήματο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Επίλυση προβλήματος με δυνατότητα παραμετροποίησής του και αναπαράστασης της λύση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Εφαρμογή εικονικής πραγματικότητ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Εκπαιδευτικά παιχνίδι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christak</cp:lastModifiedBy>
  <dcterms:modified xsi:type="dcterms:W3CDTF">2003-09-15T12:54:00Z</dcterms:modified>
  <cp:revision>75</cp:revision>
  <dc:subject/>
  <dc:title>Τίτλος ενότητας</dc:title>
</cp:coreProperties>
</file>