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1CDB-71E1-4E71-9396-B834C9E46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8C39-AEE6-40FF-9162-BCCEB4DE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B490-37DE-4D51-A802-1CD5A011E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8B18-553F-4DC5-A0C1-27FEB39B5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5C2C-C449-4AD5-9E70-7D16234E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968E-3DB3-472A-B632-8745EB3B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603E-F89C-4141-9926-4777E4DF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ABF5-D6C1-42B2-A2B3-2979DC91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DE1E-A22F-4B02-8D28-7DBFC26F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AEE9-2BC6-4DE2-914B-90FCBAF6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10F4-E20F-4867-8354-0343680C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A319-333A-4E54-8EA4-94AC9699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A017-E76E-469E-BC8B-0925D30ACD0A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19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ιώνα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χα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ίνε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υρώπ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λέ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λλαγέ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ιστήμης,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δηγού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θμιαί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ατροπ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θιερωμέν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ξιώ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Τίτλος 1" descr=""/>
          <p:cNvPicPr/>
          <p:nvPr/>
        </p:nvPicPr>
        <p:blipFill>
          <a:blip r:embed="rId1"/>
          <a:stretch/>
        </p:blipFill>
        <p:spPr>
          <a:xfrm>
            <a:off x="4698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νευμ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αστ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ινήματα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ιαφωτισμός,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αλλ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Ρομαντισμός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ιομηχαν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Ρωσ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 παραδοσιακ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ίη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ταποκρι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ην παλι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άξ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ραγμάτω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τ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αραπάν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λλαγέ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ενεργούν σ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ρόπο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ποί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άνθρωπ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ισθα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κόσμ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ηρεάζου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ηλαδή την ευαισθησία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 να εκφράσει τη «διάλυση» ευαισθησίας του ανθρώπου, η ποίηση έπρεπε να βρει καινούριους εκφραστικούς τρόπου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όνομα: άγνωστο, παρουσιαζόταν πρώτη φορά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ναι διφορούμενος: μπορεί να είναι ένας όρος της στιχουργικής,αλλὰ μπορεί και να σημαίνει μια βαθύτερη αλλαγή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χε ασφαλώς το δεύτερο νόημα. Με τη λιγοσέλιδη ποιητικὴ συλλογή ερχόταν στη νέα ελληνική ποίηση μία αναπάντεχη αλλαγή, μια πραγματική «στροφή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Τίτλος 1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13:27Z</dcterms:created>
  <dc:creator>ΓΙΩΡΓΟΣ   ΔΕΣΠΟΙΝΑ</dc:creator>
  <dc:description/>
  <dc:language>en-US</dc:language>
  <cp:lastModifiedBy>giorgos</cp:lastModifiedBy>
  <dcterms:modified xsi:type="dcterms:W3CDTF">2012-03-23T09:53:23Z</dcterms:modified>
  <cp:revision>11</cp:revision>
  <dc:subject/>
  <dc:title>ΗΓενιάτου’30 Aπό το19ο αιώνα, είχαν γίνει στην Ευρώπη πολλέςαλλαγές,που έχουν σχέση με την εξέλιξη της επιστήμης και τη δομή της κοινωνικής οργάνωσης και οδηγούν βαθμιαία στην ανατροπή των καθιερωμένων αξιών.</dc:title>
</cp:coreProperties>
</file>