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CD610-5C30-4881-9140-4E6DCE989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B06B0-2333-4132-AB70-374B49573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C5B9A-B27E-406E-AD3E-F3E761B9E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D0EA5-0853-49A8-AE59-3D807C969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7A2EC-E1D4-4D4F-924D-45251E8ED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6A417-3608-49D7-B7CE-394EDB646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1B552-44E6-44E2-9C5E-D97D14BBC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C222C-DA1E-4804-8CBD-C35349B3D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A4B4B-DF30-458B-967F-8A561DB3E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B1FE4-6ECA-4DFE-904B-BB46B8899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6C0E5-13AD-4D89-8792-F5ABF1D5B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B0410-0564-4CF6-8618-904E39F17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4920"/>
            <a:ext cx="3248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5F683-E0CA-49D3-9078-6C80E7835788}" type="slidenum">
              <a:rPr b="1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40000" cy="2279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411280" y="3068640"/>
            <a:ext cx="43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ΕΚΠΑΙΔΕΥΤΙΚΟ ΛΟΓΙΣΜΙΚ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Διαφάνει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338D2-CF55-488B-8A0D-EAB110F3743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13:05:45Z</dcterms:created>
  <dc:creator>christak</dc:creator>
  <dc:description/>
  <dc:language>en-US</dc:language>
  <cp:lastModifiedBy>1</cp:lastModifiedBy>
  <dcterms:modified xsi:type="dcterms:W3CDTF">2005-01-13T13:41:22Z</dcterms:modified>
  <cp:revision>4</cp:revision>
  <dc:subject/>
  <dc:title>Slide 1</dc:title>
</cp:coreProperties>
</file>