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5EA6E-4052-414C-81AF-FA50ADD78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2B1C5-4D6D-40A7-95B0-CF974D3D7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F27BE-1E9D-4BB3-A3F6-58B54949E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D9C55-7136-4158-B06E-955769AC2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48175-8620-430A-A4E5-2FE73F264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20995-AED7-49E8-859B-DA8303D40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25866-B472-44D2-98FA-EE3579583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3EF32-C39D-46A5-A909-CD436CA70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04889-EDC9-4088-8BF7-B6F147E47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7577F-CD5F-456C-BB0F-452B635D6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0AA32-7D70-4231-8E72-0148A5A6F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C0ADB-E749-4684-8B47-B3B52E23E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B179F-315B-4A8E-80F4-178CD2580A28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1700280"/>
            <a:ext cx="691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Εισαγωγικές έννοιες πληροφορικής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χρήση Η/Υ και γραφικά περιβάλλοντα επικοινωνία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Δεδομένα και Πληροφορίε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33520" y="2924280"/>
            <a:ext cx="8076960" cy="1009080"/>
            <a:chOff x="533520" y="2924280"/>
            <a:chExt cx="8076960" cy="1009080"/>
          </a:xfrm>
        </p:grpSpPr>
        <p:sp>
          <p:nvSpPr>
            <p:cNvPr id="44" name=""/>
            <p:cNvSpPr/>
            <p:nvPr/>
          </p:nvSpPr>
          <p:spPr>
            <a:xfrm>
              <a:off x="533520" y="2924280"/>
              <a:ext cx="1904760" cy="99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ΔΕΔΟΜΕΝ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ΙΣ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42900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πεξεργασί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Arial"/>
                </a:rPr>
                <a:t>ΠΛΗΡΟΦΟΡΙΕΣ</a:t>
              </a:r>
              <a:r>
                <a:rPr b="1" lang="el-G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l-GR" sz="2000" spc="-1" strike="noStrike">
                  <a:solidFill>
                    <a:srgbClr val="ffffff"/>
                  </a:solidFill>
                  <a:latin typeface="Arial"/>
                </a:rPr>
                <a:t>ΕΞ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1460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3868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9T17:13:45Z</dcterms:created>
  <dc:creator>..</dc:creator>
  <dc:description/>
  <dc:language>en-US</dc:language>
  <cp:lastModifiedBy>christak</cp:lastModifiedBy>
  <dcterms:modified xsi:type="dcterms:W3CDTF">2003-09-15T12:00:59Z</dcterms:modified>
  <cp:revision>13</cp:revision>
  <dc:subject/>
  <dc:title>Εισαγωγικές έννοιες πληροφορικής, χρήση Η/Υ και γραφικά περιβάλλοντα επικοινωνίας</dc:title>
</cp:coreProperties>
</file>