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6A8D-2333-4DC5-BF6F-69E23A65C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72B7-7874-4697-B86E-629A7779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38A5-B13D-4FF8-AB8A-751070E55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38C9-2E8A-4557-B35F-440150C3D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DF87-576C-4826-B05D-09046B8EA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1288-06A8-45F6-9A6F-6D01D31A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68FFF-30DD-429B-BA23-6895F957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FE63E-4A7A-41A7-8E03-7BCA8C6C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8B89-F411-4389-871D-219918B6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B542-9B42-4E63-9FAF-A4CB21B1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5260-A6C9-4B8F-B528-2D9B5B6F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4A29-4596-41BD-A4C4-129EDF9D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9354-D187-44FF-A7C8-8A7B77C2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CF09-C1BE-401C-BEE1-DF0DC357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1C3CA-AB5C-4048-900C-1BDFDA9D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AAB2-7164-425A-B486-DA3C34B65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6862-5B09-4481-8DC6-01B953F36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D7051F-5152-4D36-B39F-B823A5D2B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72F181-24BC-4EA0-85A5-1E96EEC5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5C8EDE-F6DD-4591-A557-1BE509F4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4EA956-8E62-4DC2-A04F-E7C8CA9A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259059-4AE0-4DCA-84F5-74627665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14A5-D43F-4603-8C3E-1DC7AA5E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CBCF5D-7BF0-4ADA-BBEF-947AD126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C4289C-E99C-4C94-933B-35DF6517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D4F4BB-DAC4-4495-81A2-17A74B38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6C87E5-DFB7-482E-A0EE-6120081D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C9DDB2-0D02-4EF7-89C9-D2079641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F0DE9C-9AD0-41F8-899D-803F4106D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EB22C2-2B03-4C60-B60F-AC07987B7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B8202-930A-4AC3-B239-DF326B635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6E675-D0D6-4349-9ABC-3FC420AA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8B405-D255-4165-91D6-64BBFC65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908B-4326-4744-BF50-2FDF79CD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0283B-6EA2-4236-A87A-58BAE07A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F3C05-E7BB-4746-B37C-47F46162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2A661-C819-467E-8F72-871267B6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AF1BC-1642-4DC6-9555-F404FF6D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462EA-9047-432E-8EE1-5C5E5474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12DBB-A1C7-4357-97C2-E4D7C8B7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BE6E5-3DE9-4391-99C6-863BA80A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8F91C-41A0-4125-98F2-B46ACE97C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F5E32-E5C8-46FB-891D-85E61121D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7CA6-1BC1-4B65-865F-81160929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9B56-5438-4214-8D87-48FE5BE7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D546-12AE-4B86-86F9-62A33590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A9B5-367C-460F-B4C0-1D71907C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302D-F699-495C-997D-73EA3DD3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746B-800B-4636-80F7-7267C1D29F6B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E07D-645A-49AE-94D9-34218E764BD0}" type="slidenum">
              <a:rPr b="0" lang="el-G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F14E-8D90-4251-B62A-8B3471F6A848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F8A0-B2EF-4275-A129-BA3E2748FAC1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i-grafis.com/spaw2/uploads/images/dali1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ΠΟΙΗΜΑΤΑ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424242"/>
                </a:solidFill>
                <a:latin typeface="Arial"/>
                <a:ea typeface="Arial"/>
              </a:rPr>
              <a:t>Τρία Χαϊκού, Γ. Σεφέρης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IA</a:t>
            </a: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Εικόνα 1" descr=""/>
          <p:cNvPicPr/>
          <p:nvPr/>
        </p:nvPicPr>
        <p:blipFill>
          <a:blip r:embed="rId1"/>
          <a:srcRect l="19494" t="0" r="1949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Πού να μαζεύ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α χίλια κομματάκια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υ κάθε ανθρώπο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ΙΕ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Βουλιάζει ο κόσμο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κρατήσου, θα σ' αφήσε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μόνο στον ήλιο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         </a:t>
            </a:r>
            <a:br>
              <a:rPr sz="2500"/>
            </a:b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ΙΣΤ΄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Γράφ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 μελάνι λιγόστεψ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η θάλασσα πληθαίνε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 u="sng">
                <a:solidFill>
                  <a:srgbClr val="e68200"/>
                </a:solidFill>
                <a:uFillTx/>
                <a:latin typeface="Calibri"/>
                <a:hlinkClick r:id="rId1"/>
              </a:rPr>
              <a:t>http://www.peri-grafis.com/spaw2/uploads/images/dali18.jpg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23:45Z</dcterms:created>
  <dc:creator>ΓΙΩΡΓΟΣ   ΔΕΣΠΟΙΝΑ</dc:creator>
  <dc:description/>
  <dc:language>en-US</dc:language>
  <cp:lastModifiedBy>giorgos</cp:lastModifiedBy>
  <dcterms:modified xsi:type="dcterms:W3CDTF">2012-03-25T17:17:28Z</dcterms:modified>
  <cp:revision>3</cp:revision>
  <dc:subject/>
  <dc:title>(πίνακας του Νταλί)</dc:title>
</cp:coreProperties>
</file>