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ECE43-A317-4FF6-B9AF-9DC34DB22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AC1D6-872D-4858-9B0A-679E917C9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B8E44-ECC0-44FF-A91F-F43E66CDD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47E4C-7F29-41D2-91F3-0112FE194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F53E7-7811-4890-AF1C-E0CB0A098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61200-1C9B-40EC-9B30-AC461E136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EAC3E-8843-4037-8363-55CA0723F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FC5CC-C3F5-465C-B737-37E3D74DB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4AFAB-80AB-4881-9909-E3E2E8222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98D12-EE04-40B3-8AA7-742358E16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46DB0-1E86-429E-8219-B08E2664A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383ED-6D97-4897-B2D4-AAAAB0B8E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AD7A7-AD81-4393-A1F9-90C35E9D58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052640"/>
            <a:ext cx="77058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9T15:18:39Z</dcterms:modified>
  <cp:revision>5</cp:revision>
  <dc:subject/>
  <dc:title>Slide 1</dc:title>
</cp:coreProperties>
</file>