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D531-E7CD-4E6C-AFC2-1E0610C14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AE05-BD48-4EDC-A354-F06BDA89C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CB8D-AF70-4C05-B269-0C51ADB34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9004-7191-405E-9A27-AC5B90C8B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64DA-E4A5-409B-BC0A-4067637F9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F4B6-2F3F-420C-9C5A-204825DD0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D928-84DC-4D81-B961-22FC4D03B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420E-E58A-4A4E-B290-51AE6E69A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9397-9A1B-4537-955C-719BBD371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FC26-2734-4DB8-AF48-0AAB0C5CF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40B7-B13E-4A6E-A123-59855A4C3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B8A8-5FE9-429E-AE26-D1DC70ED6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F48EC-10DE-44A5-A13F-A6E3455ADF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05264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9T15:18:39Z</dcterms:modified>
  <cp:revision>5</cp:revision>
  <dc:subject/>
  <dc:title>Slide 1</dc:title>
</cp:coreProperties>
</file>